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752013" cy="74660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801-B888-49E6-99D8-411B48B0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1ED-8616-47D7-A58D-2DD6E30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E57-CDE3-4850-8373-68676F13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66A-A82E-49E0-A3B4-D1C82CB8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C99-C6FE-4581-8650-377763D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DE89-7400-43FC-BEC3-2D0A250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9CE-88E2-46F7-8529-D23CFF96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1FC-DD76-4EFF-91DF-DCF0323E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E944-2EE9-4507-B50C-EEB9E64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609-6409-4587-8C88-BD82215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6F5E-AE4E-4112-9E1F-ABB1124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A98-3A76-4B01-BA03-F19D296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9BB1-5DB7-46E9-BE03-76DC62E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12BA-C432-4DE8-9B65-19D632B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1D3-ACCE-4817-9C15-3DE6AC96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F8A-2B25-48F1-B596-50CCE6F0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A098-6B24-4E55-8264-432183A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ACE-8234-44C1-B954-6E57F66F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5ED-1AAB-4A7F-98DD-63D8BEC0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511-EE9D-48A7-8C5D-F176BE3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E36-7335-45E0-8A44-B7108AA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692-5095-4EC3-8D1D-3000723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4A9-823E-4139-9B02-801EC5C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DA7-B92F-4B96-ADB8-BFF43DE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6040" y="252360"/>
            <a:ext cx="466920" cy="515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3920" y="252360"/>
            <a:ext cx="349560" cy="51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6360" y="711360"/>
            <a:ext cx="452520" cy="51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73080" y="711360"/>
            <a:ext cx="393840" cy="51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6440" y="631800"/>
            <a:ext cx="596880" cy="460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2880" y="133200"/>
            <a:ext cx="34920" cy="114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1600" y="995400"/>
            <a:ext cx="877572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4880" y="6886080"/>
            <a:ext cx="20318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76240" y="6886080"/>
            <a:ext cx="3087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3840" y="6886080"/>
            <a:ext cx="203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7C8B-209E-4AEB-9CD9-8CB135C84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246400"/>
            <a:ext cx="9608760" cy="1144080"/>
            <a:chOff x="0" y="2246400"/>
            <a:chExt cx="9608760" cy="1144080"/>
          </a:xfrm>
        </p:grpSpPr>
        <p:grpSp>
          <p:nvGrpSpPr>
            <p:cNvPr id="49" name=""/>
            <p:cNvGrpSpPr/>
            <p:nvPr/>
          </p:nvGrpSpPr>
          <p:grpSpPr>
            <a:xfrm>
              <a:off x="309600" y="2363760"/>
              <a:ext cx="758160" cy="515880"/>
              <a:chOff x="309600" y="2363760"/>
              <a:chExt cx="758160" cy="515880"/>
            </a:xfrm>
          </p:grpSpPr>
          <p:sp>
            <p:nvSpPr>
              <p:cNvPr id="50" name=""/>
              <p:cNvSpPr/>
              <p:nvPr/>
            </p:nvSpPr>
            <p:spPr>
              <a:xfrm>
                <a:off x="309600" y="2363760"/>
                <a:ext cx="466560" cy="51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7840" y="2363760"/>
                <a:ext cx="3499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1720" y="2822760"/>
              <a:ext cx="786600" cy="515880"/>
              <a:chOff x="441720" y="2822760"/>
              <a:chExt cx="786600" cy="515880"/>
            </a:xfrm>
          </p:grpSpPr>
          <p:sp>
            <p:nvSpPr>
              <p:cNvPr id="53" name=""/>
              <p:cNvSpPr/>
              <p:nvPr/>
            </p:nvSpPr>
            <p:spPr>
              <a:xfrm>
                <a:off x="441720" y="2822760"/>
                <a:ext cx="449640" cy="515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4840" y="2822760"/>
                <a:ext cx="39348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743200"/>
              <a:ext cx="597600" cy="459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7160" y="2246400"/>
              <a:ext cx="33480" cy="1144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960" y="3139560"/>
              <a:ext cx="9271800" cy="6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6960" y="1990440"/>
            <a:ext cx="82897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5732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7240" y="6804000"/>
            <a:ext cx="3089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31520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D770-8AA7-4560-9970-D21FC5E653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ufg.br/index.php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635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8680" y="5457960"/>
            <a:ext cx="40410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Profa. Cristina Celia Silveira Brand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Universidade de Brasí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brandao@unb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Brasília, 09 de feverei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43040" y="244440"/>
            <a:ext cx="7273800" cy="685800"/>
            <a:chOff x="743040" y="244440"/>
            <a:chExt cx="7273800" cy="6858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43040" y="291960"/>
              <a:ext cx="12096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007000" y="244440"/>
              <a:ext cx="6009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de Brasíl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Engenharia Civil e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0040" y="1023840"/>
            <a:ext cx="6526440" cy="871200"/>
            <a:chOff x="2660040" y="1023840"/>
            <a:chExt cx="6526440" cy="871200"/>
          </a:xfrm>
        </p:grpSpPr>
        <p:sp>
          <p:nvSpPr>
            <p:cNvPr id="105" name=""/>
            <p:cNvSpPr/>
            <p:nvPr/>
          </p:nvSpPr>
          <p:spPr>
            <a:xfrm>
              <a:off x="2660040" y="1169640"/>
              <a:ext cx="573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Mato Grosso do S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Hidráulica e Transport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454960" y="1023840"/>
              <a:ext cx="731520" cy="871200"/>
              <a:chOff x="8454960" y="1023840"/>
              <a:chExt cx="731520" cy="871200"/>
            </a:xfrm>
          </p:grpSpPr>
          <p:pic>
            <p:nvPicPr>
              <p:cNvPr id="107" name="UFMSsimbolo" descr=""/>
              <p:cNvPicPr/>
              <p:nvPr/>
            </p:nvPicPr>
            <p:blipFill>
              <a:blip r:embed="rId2"/>
              <a:stretch/>
            </p:blipFill>
            <p:spPr>
              <a:xfrm>
                <a:off x="8454960" y="1023840"/>
                <a:ext cx="73152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 txBox="1"/>
              <p:nvPr/>
            </p:nvSpPr>
            <p:spPr>
              <a:xfrm>
                <a:off x="8554680" y="1773360"/>
                <a:ext cx="528120" cy="12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UFM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704960" y="2001960"/>
            <a:ext cx="4869720" cy="799920"/>
            <a:chOff x="1704960" y="2001960"/>
            <a:chExt cx="4869720" cy="799920"/>
          </a:xfrm>
        </p:grpSpPr>
        <p:sp>
          <p:nvSpPr>
            <p:cNvPr id="110" name=""/>
            <p:cNvSpPr/>
            <p:nvPr/>
          </p:nvSpPr>
          <p:spPr>
            <a:xfrm>
              <a:off x="2532240" y="2100240"/>
              <a:ext cx="40424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Goiá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Escola de Engenharia Civi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Página Principa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704960" y="2001960"/>
              <a:ext cx="70308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880" y="1330200"/>
            <a:ext cx="8937720" cy="56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Desenvolver propostas pedagógicas e material didático, que levem em consideração as peculiaridades regionais e as diferentes políticas, técnicas e tecnologias visando capacitar profissionais para operação, manutenção e gestão dos sistemas de sane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planejamento, gerenciamento, operação e manutenção de sistemas e serviços de saneamento, nos níveis local e regional,visando contribuir para a sustentabilidade dos empreendimentos e a melhoria da qualidade da prestação desses serviç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sistemas de saneamento, incluindo as instalações hidrossanitárias, visando o uso racional de água e energ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gestão e manejo de todos os tipos de resíduos sólidos,contemplando todas as fases do processo (geração, coleta, transformação e destinação de cada modalidade de resíduo), observadas as normas existentes e as exigências técnicas para a destinação adequada do resídu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manejo integrado das águas pluviais urbanas visando intervenções sustentáveis no território, que evitem a transferência dos impactos negativos para jusante, por meio de medidas de minimização da impermeabilização do solo, de controle dos escoamentos e da produção de sedimentos e outros mecanismos de amortecimento de che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55720" y="3529080"/>
            <a:ext cx="841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746280" y="3908520"/>
            <a:ext cx="8489880" cy="2908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5480" y="1314360"/>
            <a:ext cx="81313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o âmbito desta Chamada Pública, serão comprometidos recursos não no valor de até R$ 4.000.000,00 originários do Fundo Setorial de Recursos Hídricos - CT-HIDRO. Além de recursos do MCidades/PMSS voltados para atividades no campo do Manejo Integrado dos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" y="1357200"/>
            <a:ext cx="850716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união de criação da 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Os representantes das Instituições de Ensino selecionadas foram convocados para uma reunião em Brasília - DF. Essa reunião contou com a presença de consultores </a:t>
            </a: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ad hoc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finidos pela FINEP, de representantes do Ministério das Cidades, do GTCapacitação, da FINEP e do Comitê Gestor do CT-HIDRO e entidades do grupo de apo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Reunião foi realizada nos dias 19 e 20 de julho e recomend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Ênfase na capacitação de operadores (chão de fáb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Buscar o estabelecimento de um sistema de certificação de formação profissional de operadores considerando uma formação modular e crescente com níveis diferenciados de conhecimento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0320" y="21708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lano de Trabalho dos Núcleos Regionais –</a:t>
            </a:r>
            <a:br>
              <a:rPr sz="2800"/>
            </a:b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oluções de Capacitação e de Extensão Tecnológi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95160" y="1179360"/>
            <a:ext cx="882036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URSO PRES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PROGRAMA DE ENSINO À DISTÂNC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REINAMENTO OPERACION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voltadas principalmente para a capacitação do nível operacional do setor, sempre que possível desenvolvidas em simulação de condições de trabalho, utilizando infra-estrutura tipo mini-redes, unidades piloto, unidades de demonstração em escala real; laboratórios de análises; equipamen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INTERCÂMBIO TECNOLÓGIC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que envolvem a realização de visitas técnicas, transferência de técnicas e tecnologias e estágios assistidos  entre as instituições e entidades que integram o plano de trabalho do núcleo reg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PACITAÇÃO EM PROCESS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proposta didático-pedagógica, também denominada, “treinamento em serviço”, busca a formação de facilitadores e  multiplicadores que se habilitem a internalizar e difundir novas práticas de gestão e procedimentos operacionais no âmbito das instituições. São atividades que requerem o envolvimento não só do corpo técnico, mas, sobretudo, dos dirigentes/tomadores de decisão da institui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OUTRAS MODALIDAD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espaço livre para proposição pelo Núcleo Regional, de outras ferramentas/soluções de capacitação e de exten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969840" y="1481040"/>
            <a:ext cx="83836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1 Diagnosticar o público-alvo, oferta e demanda de atividades de capacitação e de extensão tecnológica em saneamento na região Centro-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2 Realizar atividades de capacitação e de extensão tecnológica em sane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3 Construir uma proposta/plano de capacitação e certificação de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4 Desenvolvimento e produção de  material did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5 Desenvolvimento preliminar de instrumento para avaliação das atividades de capa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6 Elaborar ferramentas institucionais para divulgação das atividades de capacitação do núcle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4880" y="1349280"/>
            <a:ext cx="8995320" cy="59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2 - Atividades de capacitação e de extensão tecnológica em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astecimento de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3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gotamento sani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0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águas pluviais urb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8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técnicos de NS e ge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ções transver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aboração de Planos Diretores de Sanea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36640" y="1309680"/>
            <a:ext cx="8407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arceiros a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Prefeitura Municipal de Campo Grande- PM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Ambiental Do Distrito Federal - Caes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Águas Guariroba S.A. – Guarir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mpresa de Saneamento de Mato Grosso do Sul S/A. – Sanes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Urbanizadora da Nova Capital do Brasil - Nova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aneamento de Goiás S/A. – Sane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da Capital – Sane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Colabo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enai-DF e SENAI-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Urbanização de Goiânia – COM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RMU-COMP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É objetivo do projeto agregar novos parceiros de forma contin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55720" y="1479600"/>
            <a:ext cx="8405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nvênio celebrado em dezembro de 2005 no valor de R$ 1.145.639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penas 14,5% dos recursos são para infraestrutura das instituições envolvidas, o restante é para desenvolvimento das atividades de capacitação, inclusive elaboração e publicação de material did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xecução da meta 1 - Diagnosticar o público-alvo, oferta e demanda de atividades de capacitação e de extensão tecnológica em saneamento na região Centro-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Questionários já foram elab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Definição das áreas onde serão aplicados os questionários – até 20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Recebimento e ‘tratamento da informação – até 31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Adequação das atividades de capacitação e extensão – 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9960" y="289080"/>
            <a:ext cx="84531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03280"/>
            <a:ext cx="8940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tem o propósito de reunir, articular e integrar um conjunto de instituições e entidades com o objetivo d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mover o desenvolvimento institucional do setor mediante soluções de capacitação, intercâmbio técnico e extensão tecnológic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visando disciplinar a intervenção de todos os agentes envolvi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s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Núcleos Regionais expressam o caráter embrionário da Re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deverão ser constituídos atendendo aos requisitos da abrangência temática e da capilaridade regional, atuando em todas as frentes das ações de saneamento, considerando-se as políticas e técnicas de manejo, tratamento e disposição específicas para cada tema do saneamento e apropriadas para cada regi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será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gradativamente ampliad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para adesão de outras instituições e entidades, inclusive aquelas de atuação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1455840"/>
            <a:ext cx="89690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or a rede nacional com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rmato dinâmico e pluralist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ntando com representações regionais e entidades de expressão nacion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bilizar e articula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dades gestoras, prestadores de serviços, instituições de ensino, entidades de formação profissional, pesquisadores, técnicos e organizações específicas do setor, permitindo além da presença de instituições mais tradicionais, também as de pequeno porte, as de inserção recente nas temáticas do sane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mov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niciativas cooperad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ntre os integrantes da Rede visando o desenvolvimento institucional do setor, oferecendo soluções de capacitação e oportunidades de intercâmbio tecnológico voltadas para os profissionais que atuam tanto na operação do saneamento, o chamado “chão de fábrica”, até o nível técnico, superior, de gestores e de dirig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" y="1325520"/>
            <a:ext cx="914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oiar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dução, a disseminação e o intercâmbio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ntegrando pessoas e instituições para ampliar o acesso e compartilhamento da informação mediante a difusão de políticas, de boas práticas e de técnicas apropriadas de treinamento operacional por intermédio das ferramentas d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ortal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 Sane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entivar os agentes que integram a Rede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laborar com a dinâmica de funcionamento do Port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isponibilizando, por meios eletrônicos, um conjunto de soluções de capacitação (campos diversos), além de oferecer os elementos para a formação de comunidades virtuais, gestão corporativa e oportunidades de ensino à distâ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belec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nvênios e parcerias com entidades internac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sempre que possível, visando o desenvolvimento e o intercâmbio de conhecimento, técnicas e de recursos humanos e mate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Comitê Gestor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960" y="1341360"/>
            <a:ext cx="89406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s Cidad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Executiva,  da SNSA e do P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Ciência e Tecnologi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o Meio Ambien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de Recursos Hídricos (SRH) e da Secretaria de Qualidade Ambiental em Assentamentos Humanos (SQ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ência Nacional das Águ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o MMA, por intermédio da Superintendência de Tecnologia e Capacitação (S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Saú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Fundação Nacional da Saúde (FUN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ixa Econômica Feder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CAI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97000" y="287280"/>
            <a:ext cx="85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Grupo de Apoio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400" y="1409760"/>
            <a:ext cx="872352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Brasileiro de Administração Municipal – I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de Pesquisa Tecnológica – 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istema “S”- SEBR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Nacional dos Serviços Municipais de Água e Esgoto – 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Brasileira de Engenharia Sanitária e Ambiental – A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das Empresas Estaduais de Saneamento Básico – AES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ederação Nacional dos Urbanitários – Secretaria de Saneamento – FNU/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Lixo &amp; Cidadania – L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rente Nacional pelo Saneamento Ambiental - F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De Reforma Urbana – FNRU/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120" y="1312920"/>
            <a:ext cx="9140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de viabilidade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ealizado pela UnB, SRH e o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ffice International de l’Eau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(OIEAU), em 2002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proposta de se implantar, no Brasil, um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entro de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específico, concebido nos moldes do Centro Nacional Francês de Formação para as Profissões Relacionadas com a Á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usto Total de implantação (exceto terreno):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$ 10.15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Custo operacional: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$ 2.900.000 / 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rupo de Trabalho sobre Capacitação em Saneamento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T Capacit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, de composição interministerial, concebido no início de 2004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iciativa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: MCIDADES (SNSA), MMA (SRH),  ANA e M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sobre Capacitação em Saneamento Ambiental: identificação e qualificação da oferta e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o que se refere ao público-alvo, o Estudo identificou que a demanda em capacitação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abrange desde o nível operacional básico até o nível técnico, incluindo engenheiros e gestore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 Estudo revelou que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xiste, no país, significativo potencial instalado em termos de capacidade pedagógica e infra-estrutura física para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 São instituições de ensino, de pesquisa, entidades do setor e operadores que desenvolvem programas e atividades de capacitação, muitos destes com bom nível de institucionalização. Também foram identificadas, além de boa infra-estrutura de ensino, a existência de unidades de treinamento em escala real, unidades piloto e labor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82800" y="1428840"/>
            <a:ext cx="754056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eção pública de instituições de ensino para a constituição d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 Rede, organizada inicialmente por intermédio d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úcleos Reg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capacitação, apoio técnico e extensão tecnológica, tem como objetivo promover o desenvolvimento institucional do setor saneamento, de modo 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tribuir para a melhoria do desempenho operacional e da gestão dos sistem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abastecimento de água, esgotamento sanitário, manejo integrado dos resíduos sólidos e manejo integrado das águas pluviai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1379520"/>
            <a:ext cx="850608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brangência 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abastecimento de água com ênfase nas unidades de tratamento e nos processos e técnicas de uso eficiente de água e de energ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esgotamento sanitário, com ênfase nas unidades de tratamento de esgo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as águas pluviais urbanas, com ênfase em soluções que visem o controle da impermeabilização do solo e outros mecanismos de redução ou amortecimento das cheias e em medidas locais para controle dos escoamentos e da produção de sedi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os resíduos sólidos urbanos, com ênfase nas técnicas e processos de gestão voltados para a minimização da geração, manejo e transporte,processos de transformação e destinação adequada dos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8:28:52Z</dcterms:created>
  <dc:creator>Nabil</dc:creator>
  <dc:description/>
  <dc:language>en-US</dc:language>
  <cp:lastModifiedBy>CB</cp:lastModifiedBy>
  <dcterms:modified xsi:type="dcterms:W3CDTF">2006-02-09T14:46:21Z</dcterms:modified>
  <cp:revision>120</cp:revision>
  <dc:subject/>
  <dc:title>APLICAÇÃO DE LODO DE ESTAÇÃO DE TRATAMENTO DE ÁGUA COMO COAGULANTE EM UNIDADES DE TRATAMENTO DE ESGOTOS</dc:title>
</cp:coreProperties>
</file>